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06D-7CF5-45CF-8CBA-BD32F58C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8FF-8ACC-493A-9835-D7BFC17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F83-D397-4ADA-A1C9-AD16F769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418-512D-4082-AFDA-3DE4EFE3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32D-7A28-44B3-A028-02DAF179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533-72E8-4A4C-A686-749BBE6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4E9-B01E-4BD3-A49E-2EEF072E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2A7-9B53-41A2-A094-E1BB1A69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234-BA72-4A34-867F-FE5EA85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A44-7091-4026-9CEC-1277450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DFD-24D7-4B0E-A199-EF35ADFC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D92-65ED-4A61-89BF-E13B3AD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1F5-851C-4EB7-8876-2F6B30C4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黑体"/>
                <a:ea typeface="黑体"/>
              </a:rPr>
              <a:t>第三课  发现自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框  认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1"/>
          <p:cNvSpPr/>
          <p:nvPr/>
        </p:nvSpPr>
        <p:spPr>
          <a:xfrm>
            <a:off x="1371600" y="1819440"/>
            <a:ext cx="63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是＿＿＿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人。你假如能＿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我想会更好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签名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认识自己的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066680"/>
            <a:ext cx="82296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自我评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认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他人评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认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理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待他人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4" descr="22.jpg"/>
          <p:cNvPicPr/>
          <p:nvPr/>
        </p:nvPicPr>
        <p:blipFill>
          <a:blip r:embed="rId1"/>
          <a:stretch/>
        </p:blipFill>
        <p:spPr>
          <a:xfrm>
            <a:off x="638280" y="1871640"/>
            <a:ext cx="7439040" cy="2594160"/>
          </a:xfrm>
          <a:prstGeom prst="rect">
            <a:avLst/>
          </a:prstGeom>
          <a:ln w="0">
            <a:noFill/>
          </a:ln>
        </p:spPr>
      </p:pic>
      <p:sp>
        <p:nvSpPr>
          <p:cNvPr id="80" name="矩形 5"/>
          <p:cNvSpPr/>
          <p:nvPr/>
        </p:nvSpPr>
        <p:spPr>
          <a:xfrm>
            <a:off x="685800" y="3209760"/>
            <a:ext cx="7391520" cy="1676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880920" y="333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评价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371600" y="41911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我观察和分析；与他人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t01136257d254c695b0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447560" y="2057400"/>
            <a:ext cx="7086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认识自己是一个过程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随着年龄的增长、生活阅历的增加，我们不断探索自己、发现自己、发展自己，我们就可能成为最好的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" descr="11.jpg"/>
          <p:cNvPicPr/>
          <p:nvPr/>
        </p:nvPicPr>
        <p:blipFill>
          <a:blip r:embed="rId2"/>
          <a:stretch/>
        </p:blipFill>
        <p:spPr>
          <a:xfrm>
            <a:off x="533520" y="380880"/>
            <a:ext cx="20192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" descr="12.jpg"/>
          <p:cNvPicPr/>
          <p:nvPr/>
        </p:nvPicPr>
        <p:blipFill>
          <a:blip r:embed="rId3"/>
          <a:stretch/>
        </p:blipFill>
        <p:spPr>
          <a:xfrm>
            <a:off x="6934320" y="457200"/>
            <a:ext cx="2133360" cy="16653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13.jpg"/>
          <p:cNvPicPr/>
          <p:nvPr/>
        </p:nvPicPr>
        <p:blipFill>
          <a:blip r:embed="rId4"/>
          <a:stretch/>
        </p:blipFill>
        <p:spPr>
          <a:xfrm>
            <a:off x="0" y="5121360"/>
            <a:ext cx="1790640" cy="1736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" descr="14.jpg"/>
          <p:cNvPicPr/>
          <p:nvPr/>
        </p:nvPicPr>
        <p:blipFill>
          <a:blip r:embed="rId5"/>
          <a:stretch/>
        </p:blipFill>
        <p:spPr>
          <a:xfrm>
            <a:off x="7162920" y="4952880"/>
            <a:ext cx="19810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3" descr="小结.jpg"/>
          <p:cNvPicPr/>
          <p:nvPr/>
        </p:nvPicPr>
        <p:blipFill>
          <a:blip r:embed="rId1"/>
          <a:stretch/>
        </p:blipFill>
        <p:spPr>
          <a:xfrm>
            <a:off x="76320" y="304920"/>
            <a:ext cx="9067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22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297000" y="708120"/>
            <a:ext cx="30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项选择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0080" y="210780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“主要看颜值”到“主要看修养”这一社会的流行变化，说明了我们在认识自己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用发展的眼光看待自己，要不断通过改正缺点来完善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注重自己的外在形象，因为有颜值就有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表并不是那么重要，可以在穿着打扮上更加随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用全面的眼光看待自己，既要注重自己的外在形象，更要注重提高自己的内在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406640" y="206064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324000" y="26028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青在自己的成长记录本上写道：“本学期学习退步的主要原因是学习方法不当，学习效率不高。”小青认识自我的途径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的态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试的成绩反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观察和反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集体综合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认识自己的途径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探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与他人比较　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效他人　 　④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他人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Ａ．①②③　　　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②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③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850800" y="1197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029200" y="2819520"/>
            <a:ext cx="1143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724280" y="2743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68360" y="549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格拉底说：“认识自己，方能认识人生。”这句话告诉我们的道理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只要正确认识自己，就能活得精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人生的真正价值在于正确认识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正确认识自己，才能创造精彩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只有自己才能解读人生，认识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辉在参加“经典诵读”比赛前，每天对着镜子反复练习，发现问题及时纠正。他是通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途径认识自己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他人评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自我观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集体舆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名师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41116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45400" y="49417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校举行一次足球比赛，赛前小刚与队  友进行了下面的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刚：我的球技最棒，你们都不如我，应该由我来当队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明：小斌的球技虽然比你差点儿，但是大家都愿意让他来当队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刚：那这次比赛我不参加了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探究与分享：小刚与队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30360" y="4876920"/>
            <a:ext cx="8513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思考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你如何看待小刚对自己的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这样的认识给他带来怎样的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5740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小刚对自己的认识不全面，他只看到了自己的优势，没看到自己的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057400" y="18288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样的认识会使小刚的自信心膨胀，看不到自身的缺点，不利于小刚身心的健康发展，不利于小刚和同学们的正常交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057400" y="3048120"/>
            <a:ext cx="6477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80880" y="44956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127160" y="1873080"/>
            <a:ext cx="6400800" cy="249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学们，再见！</a:t>
            </a:r>
            <a:endParaRPr b="0" lang="en-US" sz="72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内容占位符 3" descr="QQ截图20160918193632.jpg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04920" y="152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人贵自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名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48" name="矩形 4" descr=""/>
          <p:cNvPicPr/>
          <p:nvPr/>
        </p:nvPicPr>
        <p:blipFill>
          <a:blip r:embed="rId2"/>
          <a:stretch/>
        </p:blipFill>
        <p:spPr>
          <a:xfrm>
            <a:off x="533520" y="5562720"/>
            <a:ext cx="7246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正确认识自己的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94920"/>
            <a:ext cx="8686800" cy="15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正确认识自己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可以促进自我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正确认识自己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可以促进与他人的交往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04920" y="3048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么，我们应该怎样正确认识自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" descr="2.jpg"/>
          <p:cNvPicPr/>
          <p:nvPr/>
        </p:nvPicPr>
        <p:blipFill>
          <a:blip r:embed="rId1"/>
          <a:stretch/>
        </p:blipFill>
        <p:spPr>
          <a:xfrm>
            <a:off x="5105520" y="38862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384766105956_1_o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4191120" y="0"/>
            <a:ext cx="2819160" cy="1752480"/>
          </a:xfrm>
          <a:prstGeom prst="cloudCallout">
            <a:avLst>
              <a:gd name="adj1" fmla="val -129953"/>
              <a:gd name="adj2" fmla="val 6376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419720" y="22860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认识的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66600" y="5421240"/>
            <a:ext cx="5867640" cy="1076760"/>
          </a:xfrm>
          <a:prstGeom prst="rect">
            <a:avLst/>
          </a:prstGeom>
          <a:solidFill>
            <a:srgbClr val="e6fa5a"/>
          </a:solidFill>
          <a:ln w="9360">
            <a:solidFill>
              <a:srgbClr val="b6dcdf"/>
            </a:solidFill>
            <a:miter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位同学请用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来描述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：第一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理方面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身体特征和生理状况来认识自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自己的身材、相貌、体能、性别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心理方面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性心理特征来认识自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性格、气质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社会方面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群体中的关系来认识自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自己在家庭或班级中的角色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4" descr="1.jpg"/>
          <p:cNvPicPr/>
          <p:nvPr/>
        </p:nvPicPr>
        <p:blipFill>
          <a:blip r:embed="rId1"/>
          <a:stretch/>
        </p:blipFill>
        <p:spPr>
          <a:xfrm>
            <a:off x="6019920" y="4981680"/>
            <a:ext cx="3124080" cy="1876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68580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从多个角度认识自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多把尺子量自己引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10"/>
          <p:cNvSpPr/>
          <p:nvPr/>
        </p:nvSpPr>
        <p:spPr>
          <a:xfrm>
            <a:off x="8610480" y="6477120"/>
            <a:ext cx="533520" cy="380880"/>
          </a:xfrm>
          <a:prstGeom prst="ellipse">
            <a:avLst/>
          </a:prstGeom>
          <a:solidFill>
            <a:srgbClr val="fbfd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62120" y="1447920"/>
            <a:ext cx="6378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写有你名字的纸张传递给右边同学，请他帮你认识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位同学写完之后签上名字，写完后依次向右传递，直到回到本人手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写与之前重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点具体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：负责，客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矩形 3" descr=""/>
          <p:cNvPicPr/>
          <p:nvPr/>
        </p:nvPicPr>
        <p:blipFill>
          <a:blip r:embed="rId1"/>
          <a:stretch/>
        </p:blipFill>
        <p:spPr>
          <a:xfrm>
            <a:off x="-23760" y="128520"/>
            <a:ext cx="6499080" cy="98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6" name="菱形 3"/>
          <p:cNvSpPr/>
          <p:nvPr/>
        </p:nvSpPr>
        <p:spPr>
          <a:xfrm>
            <a:off x="176040" y="998640"/>
            <a:ext cx="571680" cy="5094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087920" y="1089000"/>
            <a:ext cx="1748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发现自己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认识自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6"/>
          <p:cNvSpPr/>
          <p:nvPr/>
        </p:nvSpPr>
        <p:spPr>
          <a:xfrm>
            <a:off x="1374840" y="5759280"/>
            <a:ext cx="5722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u=1171111211,4260829887&amp;fm=21&amp;gp=0.jpg"/>
          <p:cNvPicPr/>
          <p:nvPr/>
        </p:nvPicPr>
        <p:blipFill>
          <a:blip r:embed="rId2"/>
          <a:stretch/>
        </p:blipFill>
        <p:spPr>
          <a:xfrm>
            <a:off x="3681360" y="5116680"/>
            <a:ext cx="706320" cy="507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u=1171111211,4260829887&amp;fm=21&amp;gp=0.jpg"/>
          <p:cNvPicPr/>
          <p:nvPr/>
        </p:nvPicPr>
        <p:blipFill>
          <a:blip r:embed="rId3"/>
          <a:stretch/>
        </p:blipFill>
        <p:spPr>
          <a:xfrm>
            <a:off x="5045040" y="5116680"/>
            <a:ext cx="706320" cy="5079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" descr="u=1171111211,4260829887&amp;fm=21&amp;gp=0.jpg"/>
          <p:cNvPicPr/>
          <p:nvPr/>
        </p:nvPicPr>
        <p:blipFill>
          <a:blip r:embed="rId4"/>
          <a:stretch/>
        </p:blipFill>
        <p:spPr>
          <a:xfrm>
            <a:off x="2222640" y="5116680"/>
            <a:ext cx="706320" cy="506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6"/>
          <p:cNvSpPr/>
          <p:nvPr/>
        </p:nvSpPr>
        <p:spPr>
          <a:xfrm>
            <a:off x="3095640" y="5759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误区警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1758960" y="181620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他人的评价，我们要全盘接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152360" y="2438280"/>
            <a:ext cx="62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说法是错误的。他人对我们的评价难免片面，有时甚至歪曲事实，因此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待他人的评价要客观冷静分析，既不能盲从，也不能忽视。用理性的心态面对他人的评价，是走向成熟的表现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8T08:02:03Z</dcterms:created>
  <dc:creator/>
  <dc:description/>
  <dc:language>en-US</dc:language>
  <cp:lastModifiedBy>Administrator</cp:lastModifiedBy>
  <dcterms:modified xsi:type="dcterms:W3CDTF">2017-09-18T08:02:03Z</dcterms:modified>
  <cp:revision>1</cp:revision>
  <dc:subject/>
  <dc:title>第三课  发现自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